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wmf" ContentType="image/x-wmf"/>
  <Override PartName="/ppt/media/image7.png" ContentType="image/png"/>
  <Override PartName="/ppt/media/image11.wmf" ContentType="image/x-wmf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F9C9D-C1A4-49A6-85B2-36F55EA110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2F78F-0F74-45BE-B6EB-1C094179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E79D5-B9C4-4776-ACB2-6DFC42EC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6E737-8618-4885-9FA7-B370382FC1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72432-606C-4509-AD0A-3FFAB1E69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F4E0A-5D62-4F06-B87E-B41F1BA74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2F177-D277-4FC9-92E5-2CF3CFD4F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6DA5A-DA16-4495-9066-F4328506D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1E81F-17AE-4694-ADA3-C1483293B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690EE-A154-4DA3-837C-408002B34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1E03B-6AF1-4A13-A12D-E0703C671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059E2-DFDF-4470-ABC1-0B6163EF3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0E1F0-89D2-4DE2-B496-335561F8383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抗帕金森病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0328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6104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药理作用和临床应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．治疗帕金森病及帕金森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本品是目前治疗帕金森病及其综合征的最有效的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物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不论年龄、性别、病程长短均适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可改善静止震颤、肌肉强直、运动迟缓和步态不协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调、面部无表情、流涎等症状，使患者精神活力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加，情绪好转，但痴呆症状不易改善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2141640" y="1341360"/>
            <a:ext cx="510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左旋多巴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evo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-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4000" y="2204640"/>
            <a:ext cx="29509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just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隶书"/>
              </a:rPr>
              <a:t>治疗肝昏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AutoShape 3"/>
          <p:cNvSpPr/>
          <p:nvPr/>
        </p:nvSpPr>
        <p:spPr>
          <a:xfrm>
            <a:off x="684360" y="2852640"/>
            <a:ext cx="8064360" cy="3456000"/>
          </a:xfrm>
          <a:prstGeom prst="wedgeRectCallout">
            <a:avLst>
              <a:gd name="adj1" fmla="val -24546"/>
              <a:gd name="adj2" fmla="val -635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2080" indent="-262080" algn="just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伪递质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学说认为：肝功能障碍时血中苯乙胺和酪胺升高，在神经细胞内经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β-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羟化酶分别生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伪递质苯乙醇胺和羟苯乙醇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取代正常递质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N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妨碍神经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262080" indent="-262080" algn="just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在脑内转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NA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使正常神经活动得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恢复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患者可由昏迷转为苏醒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262080" indent="-262080" algn="just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因不能改善肝功能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作用只是暂时性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377964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2141640" y="1341360"/>
            <a:ext cx="510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左旋多巴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evo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-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3"/>
          <p:cNvSpPr/>
          <p:nvPr/>
        </p:nvSpPr>
        <p:spPr>
          <a:xfrm>
            <a:off x="6005520" y="5710320"/>
            <a:ext cx="262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治疗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6661080" y="4565520"/>
            <a:ext cx="1638360" cy="3430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多巴脱羧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5"/>
          <p:cNvSpPr/>
          <p:nvPr/>
        </p:nvSpPr>
        <p:spPr>
          <a:xfrm>
            <a:off x="5938920" y="5138640"/>
            <a:ext cx="1114200" cy="4003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多巴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AutoShape 6"/>
          <p:cNvSpPr/>
          <p:nvPr/>
        </p:nvSpPr>
        <p:spPr>
          <a:xfrm>
            <a:off x="5938920" y="3994200"/>
            <a:ext cx="1114200" cy="3999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-dop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Line 7"/>
          <p:cNvSpPr/>
          <p:nvPr/>
        </p:nvSpPr>
        <p:spPr>
          <a:xfrm>
            <a:off x="6462720" y="4508640"/>
            <a:ext cx="0" cy="515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3497400" y="5921280"/>
            <a:ext cx="24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外周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9"/>
          <p:cNvSpPr/>
          <p:nvPr/>
        </p:nvSpPr>
        <p:spPr>
          <a:xfrm>
            <a:off x="2333520" y="1932120"/>
            <a:ext cx="1443240" cy="344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-dop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2111400" y="2219400"/>
            <a:ext cx="8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1874880" y="2733840"/>
            <a:ext cx="2293920" cy="7444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被外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MAO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MAO-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）代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971640" y="2637000"/>
            <a:ext cx="8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在肠壁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3200400" y="4851360"/>
            <a:ext cx="1900080" cy="5731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多巴脱羧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AutoShape 14"/>
          <p:cNvSpPr/>
          <p:nvPr/>
        </p:nvSpPr>
        <p:spPr>
          <a:xfrm>
            <a:off x="2465280" y="5997600"/>
            <a:ext cx="1114560" cy="342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多巴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15"/>
          <p:cNvSpPr/>
          <p:nvPr/>
        </p:nvSpPr>
        <p:spPr>
          <a:xfrm>
            <a:off x="179280" y="5084640"/>
            <a:ext cx="26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在外周细胞（胞浆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AutoShape 16"/>
          <p:cNvSpPr/>
          <p:nvPr/>
        </p:nvSpPr>
        <p:spPr>
          <a:xfrm>
            <a:off x="2916360" y="2349360"/>
            <a:ext cx="334800" cy="327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17"/>
          <p:cNvSpPr/>
          <p:nvPr/>
        </p:nvSpPr>
        <p:spPr>
          <a:xfrm>
            <a:off x="2924280" y="3592440"/>
            <a:ext cx="195120" cy="401760"/>
          </a:xfrm>
          <a:prstGeom prst="downArrow">
            <a:avLst>
              <a:gd name="adj1" fmla="val 50000"/>
              <a:gd name="adj2" fmla="val 51476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AutoShape 18"/>
          <p:cNvSpPr/>
          <p:nvPr/>
        </p:nvSpPr>
        <p:spPr>
          <a:xfrm>
            <a:off x="2924280" y="4737240"/>
            <a:ext cx="195120" cy="1087200"/>
          </a:xfrm>
          <a:prstGeom prst="downArrow">
            <a:avLst>
              <a:gd name="adj1" fmla="val 50000"/>
              <a:gd name="adj2" fmla="val 139299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 Box 19"/>
          <p:cNvSpPr/>
          <p:nvPr/>
        </p:nvSpPr>
        <p:spPr>
          <a:xfrm>
            <a:off x="2392200" y="3809880"/>
            <a:ext cx="2035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进入循环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外周组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AutoShape 20"/>
          <p:cNvSpPr/>
          <p:nvPr/>
        </p:nvSpPr>
        <p:spPr>
          <a:xfrm>
            <a:off x="2201760" y="3478320"/>
            <a:ext cx="525600" cy="682560"/>
          </a:xfrm>
          <a:custGeom>
            <a:avLst/>
            <a:gdLst>
              <a:gd name="textAreaLeft" fmla="*/ 70200 w 525600"/>
              <a:gd name="textAreaRight" fmla="*/ 455400 w 525600"/>
              <a:gd name="textAreaTop" fmla="*/ 119160 h 682560"/>
              <a:gd name="textAreaBottom" fmla="*/ 495000 h 68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 Box 21"/>
          <p:cNvSpPr/>
          <p:nvPr/>
        </p:nvSpPr>
        <p:spPr>
          <a:xfrm>
            <a:off x="684360" y="3630600"/>
            <a:ext cx="1431720" cy="8254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高香草酸，苦杏仁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Line 22"/>
          <p:cNvSpPr/>
          <p:nvPr/>
        </p:nvSpPr>
        <p:spPr>
          <a:xfrm>
            <a:off x="5861160" y="2577960"/>
            <a:ext cx="0" cy="3810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Line 23"/>
          <p:cNvSpPr/>
          <p:nvPr/>
        </p:nvSpPr>
        <p:spPr>
          <a:xfrm>
            <a:off x="5884920" y="257796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24"/>
          <p:cNvSpPr/>
          <p:nvPr/>
        </p:nvSpPr>
        <p:spPr>
          <a:xfrm>
            <a:off x="5908680" y="2590920"/>
            <a:ext cx="0" cy="3809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25"/>
          <p:cNvSpPr/>
          <p:nvPr/>
        </p:nvSpPr>
        <p:spPr>
          <a:xfrm rot="55200">
            <a:off x="4067280" y="3715920"/>
            <a:ext cx="1834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极少量（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%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26"/>
          <p:cNvSpPr/>
          <p:nvPr/>
        </p:nvSpPr>
        <p:spPr>
          <a:xfrm flipV="1">
            <a:off x="4175640" y="4252320"/>
            <a:ext cx="1780200" cy="2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27"/>
          <p:cNvSpPr/>
          <p:nvPr/>
        </p:nvSpPr>
        <p:spPr>
          <a:xfrm rot="21566400">
            <a:off x="4140360" y="4292640"/>
            <a:ext cx="19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进入中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Text Box 28"/>
          <p:cNvSpPr/>
          <p:nvPr/>
        </p:nvSpPr>
        <p:spPr>
          <a:xfrm>
            <a:off x="5978520" y="2895480"/>
            <a:ext cx="84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脑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31"/>
          <p:cNvSpPr/>
          <p:nvPr/>
        </p:nvSpPr>
        <p:spPr>
          <a:xfrm>
            <a:off x="378000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32000" y="1125360"/>
            <a:ext cx="5472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体内过程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和作用机制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971640" y="2133720"/>
            <a:ext cx="7632720" cy="6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1.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胃肠道反应  ：  </a:t>
            </a: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&gt;50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％ 宜饭后服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2124000" y="5084640"/>
            <a:ext cx="4392720" cy="12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D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－</a:t>
            </a: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R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阻断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多潘立酮（吗丁林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2268360" y="2997360"/>
            <a:ext cx="3816360" cy="1237680"/>
          </a:xfrm>
          <a:prstGeom prst="rect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  <a:effectLst>
            <a:outerShdw dist="107932" dir="189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刺激胃肠道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兴奋呕吐中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隶书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-R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3995640" y="429264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0000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2282040" y="1267560"/>
            <a:ext cx="38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药物不良反应和药疗监护须知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6000"/>
                            </p:stCondLst>
                            <p:childTnLst>
                              <p:par>
                                <p:cTn id="34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611280" y="256536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心血管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684360" y="3284640"/>
            <a:ext cx="66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）直立性低血压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30%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971640" y="5084640"/>
            <a:ext cx="381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）心律不齐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1258920" y="3860640"/>
            <a:ext cx="7634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作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末梢→抑制释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NE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（＋）血管壁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R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血管舒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1908000" y="5661000"/>
            <a:ext cx="41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（＋）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心脏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β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－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R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AutoShape 7"/>
          <p:cNvSpPr/>
          <p:nvPr/>
        </p:nvSpPr>
        <p:spPr>
          <a:xfrm>
            <a:off x="1042920" y="4005360"/>
            <a:ext cx="71640" cy="1079280"/>
          </a:xfrm>
          <a:custGeom>
            <a:avLst/>
            <a:gdLst>
              <a:gd name="textAreaLeft" fmla="*/ 45720 w 71640"/>
              <a:gd name="textAreaRight" fmla="*/ 72000 w 7164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2355120" y="1627920"/>
            <a:ext cx="38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药物不良反应和药疗监护须知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3"/>
          <p:cNvSpPr/>
          <p:nvPr/>
        </p:nvSpPr>
        <p:spPr>
          <a:xfrm>
            <a:off x="1258920" y="2492280"/>
            <a:ext cx="6629400" cy="9471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过度兴奋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手足、躯体和舌的不自主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684360" y="4365720"/>
            <a:ext cx="6408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1514520" y="1989000"/>
            <a:ext cx="377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） 多动症：舞蹈、手足徐动症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1123200" y="1556280"/>
            <a:ext cx="30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．中枢神经系统症状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684360" y="4147920"/>
            <a:ext cx="806436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剂量终末运动不能：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低蛋白饮食，将左旋多巴分成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次小量服用</a:t>
            </a:r>
            <a:r>
              <a:rPr b="0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开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现象：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多出现在症状改善及有多动症的患者，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一种双相现象，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开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时表现为正常，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关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时表现为僵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，运动不能，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开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与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关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可迅速交替出现。</a:t>
            </a:r>
            <a:r>
              <a:rPr b="0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1293840" y="3500280"/>
            <a:ext cx="269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）运动功能的波动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11"/>
          <p:cNvSpPr/>
          <p:nvPr/>
        </p:nvSpPr>
        <p:spPr>
          <a:xfrm>
            <a:off x="2355120" y="1051560"/>
            <a:ext cx="38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药物不良反应和药疗监护须知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11280" y="2204640"/>
            <a:ext cx="8353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奇相运动不能：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又称低张性凝固</a:t>
            </a:r>
            <a:r>
              <a:rPr b="1" lang="zh-CN" sz="3200" spc="-1" strike="noStrike">
                <a:solidFill>
                  <a:srgbClr val="8ac8de"/>
                </a:solidFill>
                <a:latin typeface="隶书"/>
                <a:ea typeface="隶书"/>
              </a:rPr>
              <a:t> 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双相多动症：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需减少药量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精神症状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   √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出现失眠、焦虑、恶梦、狂躁、幻觉、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妄想、抑郁等精神病症状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   √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机制与</a:t>
            </a: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DA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过度兴奋中脑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边缘系统</a:t>
            </a: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DA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体有关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   √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需减量或停药。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2210760" y="1267560"/>
            <a:ext cx="38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药物不良反应和药疗监护须知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AutoShape 2"/>
          <p:cNvSpPr/>
          <p:nvPr/>
        </p:nvSpPr>
        <p:spPr>
          <a:xfrm>
            <a:off x="755640" y="3068640"/>
            <a:ext cx="7696080" cy="2050920"/>
          </a:xfrm>
          <a:prstGeom prst="wedgeRectCallout">
            <a:avLst>
              <a:gd name="adj1" fmla="val -20009"/>
              <a:gd name="adj2" fmla="val 9017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急性或严重精神病、溶血性贫血、孕妇、青光眼、心血管疾病、内分泌疾患者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有消化性溃疡、精神病史、癫痫病患者慎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2556000" y="198900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禁忌证和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826920" y="1125360"/>
            <a:ext cx="5040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药物相互作用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539640" y="1989000"/>
            <a:ext cx="8136000" cy="41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单胺氧化酶抑制剂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MAOI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如优降宁等，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可延缓多巴胺的降解，加强周围多巴胺的作用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隶书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多巴脱羧酶的辅酶 →↑外周不良反                                                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吩噻嗪类和丁酰苯类、利血平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阻断中枢多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胺受体 →药源性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PD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和体位性低血压，左旋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巴疗效</a:t>
            </a:r>
            <a:r>
              <a:rPr b="1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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拟肾上腺素药物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加重左旋多巴对心血管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的副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250920" y="3141360"/>
            <a:ext cx="861048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抑制左旋多巴外周脱羧作用，加强多巴胺受体的激动作用及促进多巴胺的释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氨基酸脱羧酶抑制剂：苄丝肼与卡比多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单胺氧化酶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B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抑制药：司来吉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儿茶酚胺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氧位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甲基转移酶抑制药：硝替卡朋、托卡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1184760" y="2492280"/>
            <a:ext cx="163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作用特点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378000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3227400" y="14835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左旋多巴增效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24360" y="304560"/>
            <a:ext cx="4991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隶书"/>
              </a:rPr>
              <a:t>学习内容和要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9280" y="1413000"/>
            <a:ext cx="7799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掌握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抗帕金森病药物的分类及左旋多巴药理作用 及其机制、临床应用、不良反应和药物相互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左旋多巴与左旋多巴增效剂合用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溴隐亭、金刚烷胺的药理作用及临床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苯海索的药理作用及临床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519912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苄丝肼与卡比多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抑制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在外周的脱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血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 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脑组织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 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脑组织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4648320" y="2679840"/>
            <a:ext cx="4249440" cy="33116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12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特点：单用无效，与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合用疗效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7760" indent="-347760">
              <a:lnSpc>
                <a:spcPct val="12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卡比多巴与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  <a:ea typeface="隶书"/>
              </a:rPr>
              <a:t>L-dopa 1:10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混合称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帕金宁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7760" indent="-347760">
              <a:lnSpc>
                <a:spcPct val="12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苄丝肼与左旋多巴 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  <a:ea typeface="隶书"/>
              </a:rPr>
              <a:t>1:4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混合为美多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6000480" y="30276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增效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50920" y="170028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司来吉兰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selegilin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68360" y="2565000"/>
            <a:ext cx="7991280" cy="32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选择性抑制中枢神经系统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MAO-B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降低脑内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降解，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浓度↑，保护黑质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神经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司来吉兰与左旋多巴合用，增加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疗效，可减少后者的剂量和副作用，使左旋多巴的“开关”现象消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3492360" y="5013360"/>
            <a:ext cx="4392720" cy="1297080"/>
          </a:xfrm>
          <a:prstGeom prst="wedgeRoundRectCallout">
            <a:avLst>
              <a:gd name="adj1" fmla="val -33879"/>
              <a:gd name="adj2" fmla="val -49754"/>
              <a:gd name="adj3" fmla="val 16667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MAO-A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：肠道，代谢外周单胺类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MAO-B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：黑质</a:t>
            </a: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纹状体，代谢</a:t>
            </a: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DA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6000480" y="30276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增效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0"/>
          <p:cNvSpPr/>
          <p:nvPr/>
        </p:nvSpPr>
        <p:spPr>
          <a:xfrm>
            <a:off x="395280" y="148428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COM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抑制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468360" y="2133720"/>
            <a:ext cx="815328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降低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的降解、又减少其代谢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生成的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3-OMD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3-O-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甲基多巴）对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转运入脑的竞争性抑制作用。提高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的生物利用度。主要用于重症患者长期使用左旋多巴后疗效下降以及出现“开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-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关”现象的辅助治疗；可使左旋多巴的疗效平稳，延长症状波动病人“开”的时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硝替卡朋：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不易通过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BBB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，不影响脑内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COMT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托  卡  朋：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同时抑制外周和中枢的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COMT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。有肝损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恩他卡朋：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抑制外周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COM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6553080" y="5791320"/>
            <a:ext cx="19814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6000480" y="30276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增效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40096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金刚烷胺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amantadin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原是抗病毒药</a:t>
            </a:r>
            <a:br>
              <a:rPr sz="32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特点：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起效快，持续时间短。肌肉强直、震颤和运动障碍的缓解。抗胆碱药＜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金刚烷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＜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br>
              <a:rPr sz="2800"/>
            </a:b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机制：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通过多种方式加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功能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1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促进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进入脑；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2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增加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释放和减少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重摄取；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3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激动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受体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不良反应：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长期使用，下肢皮肤出现网状青斑和踝部水肿（儿茶酚胺释放收缩血管）；偶致惊厥，癫痫患者禁用；脑动脉硬化者及孕妇禁用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378000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61520" y="2660760"/>
            <a:ext cx="8364600" cy="31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可直接激动多巴胺受体，能通过血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脑屏障，有较强的选择性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本品可减轻帕金森病患者的运动不能、僵直和震颤。对左旋多巴有禁忌、不能耐受或疗效不佳者可使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不良反应与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类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消化系统疾病、心血管系统疾病和精神病患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1137960" y="1943280"/>
            <a:ext cx="41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溴隐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bromocriptin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2792880" y="119592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第二节 多巴胺受体激动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5292720" y="333360"/>
            <a:ext cx="31194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抗帕金森病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324000" y="1484280"/>
            <a:ext cx="8569080" cy="26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作用机制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阻断中枢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M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胆碱受体，减弱纹状体中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Ach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的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395280" y="1844640"/>
            <a:ext cx="73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苯海索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trihexyphenidyl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又称安坦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arta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324000" y="3284640"/>
            <a:ext cx="8496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适用于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轻症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不耐受或禁用左旋多巴的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与左旋多巴合用，可使患者症状得到进一步改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治疗抗精神病药引起的帕金森综合征有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不良反应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与</a:t>
            </a:r>
            <a:r>
              <a:rPr b="1" lang="zh-CN" sz="2800" spc="-1" strike="noStrike">
                <a:solidFill>
                  <a:srgbClr val="046ca6"/>
                </a:solidFill>
                <a:latin typeface="Arial Black"/>
                <a:ea typeface="隶书"/>
              </a:rPr>
              <a:t>阿托品相似，但轻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禁用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青光眼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3287160" y="112536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第三节 中枢性抗胆碱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5724360" y="404640"/>
            <a:ext cx="311976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抗帕金森病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65534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帕金森病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Parkinson’s diseas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PD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）又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震颤麻痹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是锥体外系功能紊乱所引起的一种慢性中枢神经系统退行性疾病。是中老年人常见的中枢神经系统退行性疾病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临床常见的症状主要是：静止性震颤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resting tremor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、肌肉强直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rigidity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、 运动障碍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akinesia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、 姿势异常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postural   dysfunction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随着疾病的发展，大多患者会出现认知及精神障碍</a:t>
            </a:r>
            <a:r>
              <a:rPr b="0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帕金森病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0" name="Picture 5" descr="pdntr"/>
          <p:cNvPicPr/>
          <p:nvPr/>
        </p:nvPicPr>
        <p:blipFill>
          <a:blip r:embed="rId1"/>
          <a:stretch/>
        </p:blipFill>
        <p:spPr>
          <a:xfrm>
            <a:off x="6918480" y="2421000"/>
            <a:ext cx="222552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08000" y="1916280"/>
            <a:ext cx="453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这个病是以英国医生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-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James Parkinson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而命名，在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817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年，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James Parkinson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在他的论文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《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震颤麻痹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》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“An Essay on the Shaking Palsy”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中详细的描述这个疾病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4427640" y="1916280"/>
            <a:ext cx="2592360" cy="388764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5"/>
          <p:cNvGrpSpPr/>
          <p:nvPr/>
        </p:nvGrpSpPr>
        <p:grpSpPr>
          <a:xfrm>
            <a:off x="6469920" y="1916280"/>
            <a:ext cx="2667960" cy="4559040"/>
            <a:chOff x="6469920" y="1916280"/>
            <a:chExt cx="2667960" cy="4559040"/>
          </a:xfrm>
        </p:grpSpPr>
        <p:pic>
          <p:nvPicPr>
            <p:cNvPr id="114" name="Picture 6" descr="park00"/>
            <p:cNvPicPr/>
            <p:nvPr/>
          </p:nvPicPr>
          <p:blipFill>
            <a:blip r:embed="rId2"/>
            <a:stretch/>
          </p:blipFill>
          <p:spPr>
            <a:xfrm>
              <a:off x="7021800" y="1916280"/>
              <a:ext cx="1681560" cy="398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7"/>
            <p:cNvSpPr/>
            <p:nvPr/>
          </p:nvSpPr>
          <p:spPr>
            <a:xfrm>
              <a:off x="6469920" y="5955120"/>
              <a:ext cx="2667960" cy="520200"/>
            </a:xfrm>
            <a:prstGeom prst="rect">
              <a:avLst/>
            </a:prstGeom>
            <a:solidFill>
              <a:srgbClr val="046ca6"/>
            </a:solidFill>
            <a:ln w="2232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ddddd"/>
                  </a:solidFill>
                  <a:latin typeface="Times New Roman"/>
                  <a:ea typeface="宋体"/>
                </a:rPr>
                <a:t>Monograph by James Parkinson</a:t>
              </a:r>
              <a:endParaRPr b="0" lang="en-US" sz="1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ddddd"/>
                  </a:solidFill>
                  <a:latin typeface="Times New Roman"/>
                  <a:ea typeface="宋体"/>
                </a:rPr>
                <a:t>1817</a:t>
              </a:r>
              <a:endParaRPr b="0" lang="en-US" sz="1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6" name="Rectangle 8"/>
          <p:cNvSpPr/>
          <p:nvPr/>
        </p:nvSpPr>
        <p:spPr>
          <a:xfrm>
            <a:off x="6124680" y="2602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抗帕金森病药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539640" y="4356360"/>
            <a:ext cx="468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868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年法国医生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Charcot JM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又补充了一项重要体征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肌强直，明确为一个独立的疾病。为纪念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Parkinson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正式命名为帕金森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4" descr="PD11"/>
          <p:cNvPicPr/>
          <p:nvPr/>
        </p:nvPicPr>
        <p:blipFill>
          <a:blip r:embed="rId1"/>
          <a:stretch/>
        </p:blipFill>
        <p:spPr>
          <a:xfrm>
            <a:off x="5796000" y="4417920"/>
            <a:ext cx="2881440" cy="24400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611280" y="1844640"/>
            <a:ext cx="396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《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皇帝内经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》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及唐代著名医学家孙思邈在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《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千金要方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》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中已有报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6" descr="21"/>
          <p:cNvPicPr/>
          <p:nvPr/>
        </p:nvPicPr>
        <p:blipFill>
          <a:blip r:embed="rId2"/>
          <a:stretch/>
        </p:blipFill>
        <p:spPr>
          <a:xfrm>
            <a:off x="5867280" y="1268280"/>
            <a:ext cx="2449800" cy="2880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7"/>
          <p:cNvSpPr/>
          <p:nvPr/>
        </p:nvSpPr>
        <p:spPr>
          <a:xfrm>
            <a:off x="6124680" y="2602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抗帕金森病药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5167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950s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，瑞典科学家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Arvid Carlsson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确定了帕金森病（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PD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）脑的基本化学改变，由于他的大量的研究工作他获得诺贝尔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他的研究使人们认识到大脑特定部位多巴胺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(DA)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缺乏可导致帕金森病，并推动了该病治疗药物的研制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6084720" y="1844640"/>
          <a:ext cx="291960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4720" y="1844640"/>
                    <a:ext cx="29196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Rectangle 5"/>
          <p:cNvSpPr/>
          <p:nvPr/>
        </p:nvSpPr>
        <p:spPr>
          <a:xfrm>
            <a:off x="6124680" y="2602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抗帕金森病药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436680" y="1714680"/>
            <a:ext cx="823428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br>
              <a:rPr sz="4000"/>
            </a:b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-181080" y="1557360"/>
            <a:ext cx="74898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隶书"/>
              </a:rPr>
              <a:t>分型：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隶书"/>
              </a:rPr>
              <a:t>根据病因分为：</a:t>
            </a:r>
            <a:br>
              <a:rPr sz="4000"/>
            </a:b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39640" y="2781360"/>
            <a:ext cx="8209080" cy="41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原发性：即帕金森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继发性：动脉硬化、脑炎后遗症、 化学药物中毒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引起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均出现类似原发性帕金森病的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状，总称为帕金森综合征 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Parkinsonism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6124680" y="2602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抗帕金森病药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292360" y="333000"/>
            <a:ext cx="311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抗帕金森病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86108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本病系由黑质致密区多巴胺神经元丢失，纹状体多巴胺含量下降，造成多巴胺能神经功能不足。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Ach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能神经功能相对亢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治疗帕金森病的药物大体可分为两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增加脑内多巴胺含量及多巴胺受体激动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中枢性抗胆碱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AutoShape 4"/>
          <p:cNvSpPr/>
          <p:nvPr/>
        </p:nvSpPr>
        <p:spPr>
          <a:xfrm rot="1195200">
            <a:off x="6443640" y="5229360"/>
            <a:ext cx="2478240" cy="7776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3274920" y="5157720"/>
            <a:ext cx="2664000" cy="7164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3851280" y="5229360"/>
            <a:ext cx="1339920" cy="72072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6946920" y="5300640"/>
            <a:ext cx="1339920" cy="64764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Oval 8"/>
          <p:cNvSpPr/>
          <p:nvPr/>
        </p:nvSpPr>
        <p:spPr>
          <a:xfrm>
            <a:off x="3348000" y="4365720"/>
            <a:ext cx="863640" cy="7779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Oval 9"/>
          <p:cNvSpPr/>
          <p:nvPr/>
        </p:nvSpPr>
        <p:spPr>
          <a:xfrm>
            <a:off x="4930920" y="4365720"/>
            <a:ext cx="865080" cy="7779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Oval 10"/>
          <p:cNvSpPr/>
          <p:nvPr/>
        </p:nvSpPr>
        <p:spPr>
          <a:xfrm>
            <a:off x="8099280" y="4653000"/>
            <a:ext cx="865440" cy="8510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Oval 11"/>
          <p:cNvSpPr/>
          <p:nvPr/>
        </p:nvSpPr>
        <p:spPr>
          <a:xfrm>
            <a:off x="6588000" y="4076640"/>
            <a:ext cx="838440" cy="83844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3348000" y="4437000"/>
            <a:ext cx="7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6659640" y="42926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4859280" y="4437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ch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3995640" y="59500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正常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Text Box 16"/>
          <p:cNvSpPr/>
          <p:nvPr/>
        </p:nvSpPr>
        <p:spPr>
          <a:xfrm>
            <a:off x="7114320" y="5950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帕金森病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 Box 17"/>
          <p:cNvSpPr/>
          <p:nvPr/>
        </p:nvSpPr>
        <p:spPr>
          <a:xfrm>
            <a:off x="8001000" y="47242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ch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0920" y="4508640"/>
            <a:ext cx="7561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在体内是左旋酪氨酸合成儿茶酚胺的中间产物，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前体物，现已人工合成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395280" y="1773360"/>
            <a:ext cx="914400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左旋多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evo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-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1763640" y="2924280"/>
            <a:ext cx="4800600" cy="15872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49" name="Rectangle 5"/>
          <p:cNvSpPr/>
          <p:nvPr/>
        </p:nvSpPr>
        <p:spPr>
          <a:xfrm>
            <a:off x="356400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11T01:49:52Z</dcterms:modified>
  <cp:revision>5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